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87E7-620E-4BC3-A815-E4C5FC0DD9B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27B3-0C86-4A4D-BD28-3248D9F8739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AF2-63C2-44DB-B9E0-BA58B314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1CF-EB6F-4EFA-8B7D-AB9B0AA7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D83-CF8C-4C04-A16A-4D121635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D5C-D96C-4EB1-835B-67053F2A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EB0-CBE0-4220-8906-4103927E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ED5-2F8C-4632-9BF2-D82A7801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3A9-7E09-4EDF-92AB-74759832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7A2-8436-42D5-8877-5730FEE4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6F1-9E53-43A7-A3CD-1A8C4EEC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F53-5010-403D-9D9E-A6A36309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136-E6D1-4C9C-AD4D-6862A2FA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C14-123B-4651-B292-1F5D013F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CF8D-C411-451A-B9F1-0468E49C9D3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3"/>
          <p:cNvSpPr/>
          <p:nvPr/>
        </p:nvSpPr>
        <p:spPr>
          <a:xfrm>
            <a:off x="-146160" y="324000"/>
            <a:ext cx="9422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Ti racconto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la croce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4"/>
          <p:cNvSpPr/>
          <p:nvPr/>
        </p:nvSpPr>
        <p:spPr>
          <a:xfrm>
            <a:off x="1053360" y="4699080"/>
            <a:ext cx="68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LTSalamanderDbl Medium"/>
              </a:rPr>
              <a:t>Gli incontri di Ges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LTSalamanderDbl Medium"/>
              </a:rPr>
              <a:t>sulla via della cro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magine 4" descr="Lc 23 - Gesù e la Veronica2.jpg"/>
          <p:cNvPicPr/>
          <p:nvPr/>
        </p:nvPicPr>
        <p:blipFill>
          <a:blip r:embed="rId1"/>
          <a:stretch/>
        </p:blipFill>
        <p:spPr>
          <a:xfrm>
            <a:off x="2124000" y="-100080"/>
            <a:ext cx="5112000" cy="7016760"/>
          </a:xfrm>
          <a:prstGeom prst="rect">
            <a:avLst/>
          </a:prstGeom>
          <a:ln w="0">
            <a:noFill/>
          </a:ln>
        </p:spPr>
      </p:pic>
      <p:cxnSp>
        <p:nvCxnSpPr>
          <p:cNvPr id="83" name="Connettore 2 2"/>
          <p:cNvCxnSpPr/>
          <p:nvPr/>
        </p:nvCxnSpPr>
        <p:spPr>
          <a:xfrm flipV="1">
            <a:off x="1907640" y="764280"/>
            <a:ext cx="1801080" cy="288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4" name="Connettore 2 5"/>
          <p:cNvCxnSpPr/>
          <p:nvPr/>
        </p:nvCxnSpPr>
        <p:spPr>
          <a:xfrm flipV="1">
            <a:off x="1908000" y="2923920"/>
            <a:ext cx="1872720" cy="12974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5" name="Connettore 2 8"/>
          <p:cNvCxnSpPr/>
          <p:nvPr/>
        </p:nvCxnSpPr>
        <p:spPr>
          <a:xfrm flipH="1">
            <a:off x="6300000" y="3715200"/>
            <a:ext cx="1296360" cy="10818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6" name="CasellaDiTesto 6"/>
          <p:cNvSpPr/>
          <p:nvPr/>
        </p:nvSpPr>
        <p:spPr>
          <a:xfrm>
            <a:off x="41040" y="268200"/>
            <a:ext cx="22352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gesto di qu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onna, non 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accontato d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Vangeli, ma  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unga tradizione 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ce che, sulla s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 Calvario, qualcu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a avuto pietà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mpassione per Ges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a sfidato la folla e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ldati e si è fatta av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 asciugare il vo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figurato di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7"/>
          <p:cNvSpPr/>
          <p:nvPr/>
        </p:nvSpPr>
        <p:spPr>
          <a:xfrm>
            <a:off x="12600" y="4030560"/>
            <a:ext cx="2224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Gesù ricompen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el gesto di tenerezz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gli imprime sul lino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donna ha usato 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sciugarlo, il suo volto: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sso ci ricorda che 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ignore Gesù 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asconde” dietro 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ogni povero, ogni u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ti domanda bon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benevole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9"/>
          <p:cNvSpPr/>
          <p:nvPr/>
        </p:nvSpPr>
        <p:spPr>
          <a:xfrm>
            <a:off x="7308720" y="2924280"/>
            <a:ext cx="18352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cco il richiamo 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overtà: le m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un uomo che presentano u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iotola vuo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seg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’umanità 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rida al Signore e che ci do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non ess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nsensibil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Ogni volta… l’avete fatto a me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i ricorda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asellaDiTesto 3"/>
          <p:cNvSpPr/>
          <p:nvPr/>
        </p:nvSpPr>
        <p:spPr>
          <a:xfrm>
            <a:off x="-150840" y="404640"/>
            <a:ext cx="70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andara"/>
              </a:rPr>
              <a:t>Oggi, Signore abbiamo capito qualcosa di più del tuo a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sellaDiTesto 5"/>
          <p:cNvSpPr/>
          <p:nvPr/>
        </p:nvSpPr>
        <p:spPr>
          <a:xfrm>
            <a:off x="2268360" y="1144440"/>
            <a:ext cx="280836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obbiamo ringraziarti p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tutti coloro che ci voglio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bene e che, nei momenti pi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aticosi, ci sono vicini, n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cappano ma rimangono 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ostro fianco per aiutarci  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ondividere ciò che viviam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7"/>
          <p:cNvSpPr/>
          <p:nvPr/>
        </p:nvSpPr>
        <p:spPr>
          <a:xfrm>
            <a:off x="6443640" y="1197000"/>
            <a:ext cx="262908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Vogliamo pregarti per ch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ommette il male e n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vuole smettere; per ch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on il suo modo di far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rende tristi tante perso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Ti affidiamo le pers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stanno passando u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momento di fatica e d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offerenza. Sostienile c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la tua vicinanz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e il tuo aiuto potent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sellaDiTesto 9"/>
          <p:cNvSpPr/>
          <p:nvPr/>
        </p:nvSpPr>
        <p:spPr>
          <a:xfrm>
            <a:off x="6659640" y="4398840"/>
            <a:ext cx="237636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a’ che ti riconoscia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el povero, in chi n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ha niente , ma anche 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i ci domanda un po’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tempo, di am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e di attenzio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Rendici persone c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i mettono a servizi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sellaDiTesto 12"/>
          <p:cNvSpPr/>
          <p:nvPr/>
        </p:nvSpPr>
        <p:spPr>
          <a:xfrm>
            <a:off x="76320" y="5589720"/>
            <a:ext cx="466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Guidaci sempre su s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di carità, di solidarietà e di serviz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A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magine 6" descr="Le mani di Maria e Gesù.jpg"/>
          <p:cNvPicPr/>
          <p:nvPr/>
        </p:nvPicPr>
        <p:blipFill>
          <a:blip r:embed="rId1"/>
          <a:stretch/>
        </p:blipFill>
        <p:spPr>
          <a:xfrm>
            <a:off x="289080" y="1200240"/>
            <a:ext cx="1920600" cy="1800000"/>
          </a:xfrm>
          <a:prstGeom prst="rect">
            <a:avLst/>
          </a:prstGeom>
          <a:ln w="0">
            <a:noFill/>
          </a:ln>
        </p:spPr>
      </p:pic>
      <p:pic>
        <p:nvPicPr>
          <p:cNvPr id="95" name="Immagine 8" descr="Le donne di Gerusalemme.jpg"/>
          <p:cNvPicPr/>
          <p:nvPr/>
        </p:nvPicPr>
        <p:blipFill>
          <a:blip r:embed="rId2"/>
          <a:stretch/>
        </p:blipFill>
        <p:spPr>
          <a:xfrm>
            <a:off x="5148360" y="1197000"/>
            <a:ext cx="1224000" cy="2941560"/>
          </a:xfrm>
          <a:prstGeom prst="rect">
            <a:avLst/>
          </a:prstGeom>
          <a:ln w="0">
            <a:noFill/>
          </a:ln>
        </p:spPr>
      </p:pic>
      <p:sp>
        <p:nvSpPr>
          <p:cNvPr id="96" name="CasellaDiTesto 10"/>
          <p:cNvSpPr/>
          <p:nvPr/>
        </p:nvSpPr>
        <p:spPr>
          <a:xfrm>
            <a:off x="2556000" y="3521160"/>
            <a:ext cx="23763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iutaci ad imit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empre di più la tu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arità verso gli altri, e non considerare temp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precato, quello c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usiamo per aiutare 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rendere felici gli altr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magine 11" descr="Simone e Gesù.jpg"/>
          <p:cNvPicPr/>
          <p:nvPr/>
        </p:nvPicPr>
        <p:blipFill>
          <a:blip r:embed="rId3"/>
          <a:stretch/>
        </p:blipFill>
        <p:spPr>
          <a:xfrm>
            <a:off x="330120" y="3630600"/>
            <a:ext cx="2225880" cy="167004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13" descr="Il volto di Cristo.jpg"/>
          <p:cNvPicPr/>
          <p:nvPr/>
        </p:nvPicPr>
        <p:blipFill>
          <a:blip r:embed="rId4"/>
          <a:stretch/>
        </p:blipFill>
        <p:spPr>
          <a:xfrm>
            <a:off x="5119560" y="4390920"/>
            <a:ext cx="1468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ttangolo 3"/>
          <p:cNvSpPr/>
          <p:nvPr/>
        </p:nvSpPr>
        <p:spPr>
          <a:xfrm>
            <a:off x="539640" y="40464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c000"/>
                </a:solidFill>
                <a:latin typeface="LTSalamanderDbl Medium"/>
              </a:rPr>
              <a:t>Gesto di carit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LTSalamanderDbl Medium"/>
              </a:rPr>
              <a:t>Penso a chi è meno fortunato di m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tangolo 4"/>
          <p:cNvSpPr/>
          <p:nvPr/>
        </p:nvSpPr>
        <p:spPr>
          <a:xfrm>
            <a:off x="3564000" y="2924280"/>
            <a:ext cx="54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DO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DE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SCATOL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2" descr="Lc 19 - Oggi la salvezza è entrata in questa casa2.jpg"/>
          <p:cNvPicPr/>
          <p:nvPr/>
        </p:nvPicPr>
        <p:blipFill>
          <a:blip r:embed="rId1"/>
          <a:stretch/>
        </p:blipFill>
        <p:spPr>
          <a:xfrm>
            <a:off x="0" y="-44280"/>
            <a:ext cx="4800600" cy="690228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4859280" y="274680"/>
            <a:ext cx="4105440" cy="88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Signore Gesù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i sappiamo che il Tuo sguar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è sempre sguardo di amor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che i tuoi occh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n giudicano e non condanna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ma ci vogliono aiut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a riconoscere ciò che non 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ella nostra vita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Con tutti hai saputo ricerc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il “buono” che c’era nel loro cuo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Anche con Zaccheo hai fatto così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hai preferito fare il primo pas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e puntare sul suo deside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di felicità e di gio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a è la logica della CROC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o è il modo che anche n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vogliamo imparare a viv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questo siamo qu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imparare dalla tua CROC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1"/>
          <p:cNvSpPr/>
          <p:nvPr/>
        </p:nvSpPr>
        <p:spPr>
          <a:xfrm>
            <a:off x="1535400" y="692280"/>
            <a:ext cx="6127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Prim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GESÚ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INCONT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SUA MAD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14" descr="Mc 15 - Maria e Gesù5.jpg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54" name="Connettore 2 4"/>
          <p:cNvCxnSpPr/>
          <p:nvPr/>
        </p:nvCxnSpPr>
        <p:spPr>
          <a:xfrm flipV="1">
            <a:off x="1907640" y="3499920"/>
            <a:ext cx="1296360" cy="12247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5" name="CasellaDiTesto 6"/>
          <p:cNvSpPr/>
          <p:nvPr/>
        </p:nvSpPr>
        <p:spPr>
          <a:xfrm>
            <a:off x="43200" y="4365720"/>
            <a:ext cx="2096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iconosciamo sub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figura di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al colore della tun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osso, segno di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uore pieno di amo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nimato dall’amor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i amò fino alla fin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Connettore 2 5"/>
          <p:cNvCxnSpPr>
            <a:stCxn id="57" idx="1"/>
          </p:cNvCxnSpPr>
          <p:nvPr/>
        </p:nvCxnSpPr>
        <p:spPr>
          <a:xfrm flipH="1" flipV="1">
            <a:off x="5795280" y="4291920"/>
            <a:ext cx="126900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7" name="CasellaDiTesto 9"/>
          <p:cNvSpPr/>
          <p:nvPr/>
        </p:nvSpPr>
        <p:spPr>
          <a:xfrm>
            <a:off x="7075080" y="4221000"/>
            <a:ext cx="2058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altra fig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domina la sc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Maria, la mad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vestita di ver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lore della spera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ria ci inse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sperare anche 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ituazione più diffici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ando sem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nulla sia possib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ttore 2 16"/>
          <p:cNvCxnSpPr/>
          <p:nvPr/>
        </p:nvCxnSpPr>
        <p:spPr>
          <a:xfrm flipH="1">
            <a:off x="4787640" y="1483200"/>
            <a:ext cx="2305440" cy="13608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" name="CasellaDiTesto 19"/>
          <p:cNvSpPr/>
          <p:nvPr/>
        </p:nvSpPr>
        <p:spPr>
          <a:xfrm>
            <a:off x="7046640" y="237960"/>
            <a:ext cx="203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mani di Gesù e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ria si tocca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prende la cr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Maria semb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stenere qu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fatica” di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lla segue Gesù fin s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alvario e parteci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 suo dolore e al s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acrificio di am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mpara così ad am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me suo Figlio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Connettore 2 22"/>
          <p:cNvCxnSpPr/>
          <p:nvPr/>
        </p:nvCxnSpPr>
        <p:spPr>
          <a:xfrm flipV="1">
            <a:off x="1979280" y="907560"/>
            <a:ext cx="1943640" cy="7214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1" name="CasellaDiTesto 24"/>
          <p:cNvSpPr/>
          <p:nvPr/>
        </p:nvSpPr>
        <p:spPr>
          <a:xfrm>
            <a:off x="8280" y="557280"/>
            <a:ext cx="2107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 volti della madre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 Figlio sono coper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al legno della cro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el momento pi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uro della sua vi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sente la pres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il conforto di M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ingraziamo 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amore dei nost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nitori. Esso è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mmagine di qu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M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1"/>
          <p:cNvSpPr/>
          <p:nvPr/>
        </p:nvSpPr>
        <p:spPr>
          <a:xfrm>
            <a:off x="1231200" y="476280"/>
            <a:ext cx="67356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Second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GESÚ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INCONTR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LE DON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magine 15" descr="Lc 23 - Gesù e le donne di Gerusalemme2.JPG"/>
          <p:cNvPicPr/>
          <p:nvPr/>
        </p:nvPicPr>
        <p:blipFill>
          <a:blip r:embed="rId1"/>
          <a:stretch/>
        </p:blipFill>
        <p:spPr>
          <a:xfrm>
            <a:off x="2124000" y="-6480"/>
            <a:ext cx="4891320" cy="6864480"/>
          </a:xfrm>
          <a:prstGeom prst="rect">
            <a:avLst/>
          </a:prstGeom>
          <a:ln w="0">
            <a:noFill/>
          </a:ln>
        </p:spPr>
      </p:pic>
      <p:cxnSp>
        <p:nvCxnSpPr>
          <p:cNvPr id="64" name="Connettore 2 5"/>
          <p:cNvCxnSpPr/>
          <p:nvPr/>
        </p:nvCxnSpPr>
        <p:spPr>
          <a:xfrm flipV="1">
            <a:off x="1547280" y="4220640"/>
            <a:ext cx="864360" cy="5040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" name="CasellaDiTesto 6"/>
          <p:cNvSpPr/>
          <p:nvPr/>
        </p:nvSpPr>
        <p:spPr>
          <a:xfrm>
            <a:off x="81000" y="3868560"/>
            <a:ext cx="19429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iconosciamo i vol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e donne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rusalem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guarda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Gesù che porta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roce con stupore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artecipazion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immagine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utti coloro che 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sciano scuotere dal dolore degli alt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10"/>
          <p:cNvCxnSpPr/>
          <p:nvPr/>
        </p:nvCxnSpPr>
        <p:spPr>
          <a:xfrm>
            <a:off x="1907640" y="620640"/>
            <a:ext cx="864360" cy="2880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7" name="Connettore 2 12"/>
          <p:cNvCxnSpPr/>
          <p:nvPr/>
        </p:nvCxnSpPr>
        <p:spPr>
          <a:xfrm>
            <a:off x="1908000" y="620280"/>
            <a:ext cx="4104720" cy="57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8" name="CasellaDiTesto 14"/>
          <p:cNvSpPr/>
          <p:nvPr/>
        </p:nvSpPr>
        <p:spPr>
          <a:xfrm>
            <a:off x="96840" y="196920"/>
            <a:ext cx="2087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continua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ortare la cro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sue mani 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mett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abbracciare q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gno d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gno del pecc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gli uomi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trova la fo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consolarle e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far loro compren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il peccato r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dignità dell’uo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Connettore 2 17"/>
          <p:cNvCxnSpPr/>
          <p:nvPr/>
        </p:nvCxnSpPr>
        <p:spPr>
          <a:xfrm flipH="1">
            <a:off x="6442920" y="4005360"/>
            <a:ext cx="793080" cy="576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0" name="CasellaDiTesto 20"/>
          <p:cNvSpPr/>
          <p:nvPr/>
        </p:nvSpPr>
        <p:spPr>
          <a:xfrm>
            <a:off x="6948360" y="3429000"/>
            <a:ext cx="2087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este d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n i loro bamb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appresen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umanità che anc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oggi soff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 la cattiveria e l’egoismo dell’uo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uardano a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chè sanno che 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uò comprend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uò ca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ché ha vissu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dolor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ttore 2 21"/>
          <p:cNvCxnSpPr/>
          <p:nvPr/>
        </p:nvCxnSpPr>
        <p:spPr>
          <a:xfrm flipH="1">
            <a:off x="5292360" y="1557000"/>
            <a:ext cx="1944000" cy="1943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2" name="CasellaDiTesto 23"/>
          <p:cNvSpPr/>
          <p:nvPr/>
        </p:nvSpPr>
        <p:spPr>
          <a:xfrm>
            <a:off x="6959520" y="328680"/>
            <a:ext cx="2087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itorna anco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colore ro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a veste di Ges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i adoriamo o Cris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ti benedicia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ché con la t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anta cr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ai amato e red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li uomini, il mon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asellaDiTesto 1"/>
          <p:cNvSpPr/>
          <p:nvPr/>
        </p:nvSpPr>
        <p:spPr>
          <a:xfrm>
            <a:off x="-222120" y="1044720"/>
            <a:ext cx="9653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Terz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GESÚ INCONT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SIMONE DI CIRE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magine 10" descr="Mt 27 - Simone di Cirene1.JPG"/>
          <p:cNvPicPr/>
          <p:nvPr/>
        </p:nvPicPr>
        <p:blipFill>
          <a:blip r:embed="rId1"/>
          <a:stretch/>
        </p:blipFill>
        <p:spPr>
          <a:xfrm>
            <a:off x="2076480" y="0"/>
            <a:ext cx="4991040" cy="6858000"/>
          </a:xfrm>
          <a:prstGeom prst="rect">
            <a:avLst/>
          </a:prstGeom>
          <a:ln w="0">
            <a:noFill/>
          </a:ln>
        </p:spPr>
      </p:pic>
      <p:cxnSp>
        <p:nvCxnSpPr>
          <p:cNvPr id="75" name="Connettore 2 9"/>
          <p:cNvCxnSpPr/>
          <p:nvPr/>
        </p:nvCxnSpPr>
        <p:spPr>
          <a:xfrm flipH="1">
            <a:off x="3491640" y="4219920"/>
            <a:ext cx="3744360" cy="15138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" name="CasellaDiTesto 12"/>
          <p:cNvSpPr/>
          <p:nvPr/>
        </p:nvSpPr>
        <p:spPr>
          <a:xfrm>
            <a:off x="7005240" y="1700280"/>
            <a:ext cx="20124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uardiamo le m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Simone e di Ges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una sostiene la cr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l’altra abbrac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fianco dell’alt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segno concr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aiuto e sosteg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imone si è lasci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ovocare dal do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quel condan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l’ha aiut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anche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iuta Simo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li insegna a 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ssere so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le richieste di ai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ti vengono rivol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agli alt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Connettore 2 5"/>
          <p:cNvCxnSpPr/>
          <p:nvPr/>
        </p:nvCxnSpPr>
        <p:spPr>
          <a:xfrm flipH="1" flipV="1">
            <a:off x="6084360" y="1628280"/>
            <a:ext cx="1152000" cy="25927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" name="Connettore 2 7"/>
          <p:cNvCxnSpPr/>
          <p:nvPr/>
        </p:nvCxnSpPr>
        <p:spPr>
          <a:xfrm>
            <a:off x="1908000" y="2565360"/>
            <a:ext cx="1440360" cy="2880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" name="CasellaDiTesto 6"/>
          <p:cNvSpPr/>
          <p:nvPr/>
        </p:nvSpPr>
        <p:spPr>
          <a:xfrm>
            <a:off x="114840" y="1773360"/>
            <a:ext cx="19850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uardiamo o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volto di Sim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quello di Ges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ugua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mbrano gemel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esto ci comu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una grande verit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ogni volta che de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aiutare gli altr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dare una 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chi ha bisog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vento come Ges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mia vita assomig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un po’ di più a Lu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Connettore 2 8"/>
          <p:cNvCxnSpPr/>
          <p:nvPr/>
        </p:nvCxnSpPr>
        <p:spPr>
          <a:xfrm flipV="1">
            <a:off x="1907640" y="2276280"/>
            <a:ext cx="3025080" cy="2894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asellaDiTesto 1"/>
          <p:cNvSpPr/>
          <p:nvPr/>
        </p:nvSpPr>
        <p:spPr>
          <a:xfrm>
            <a:off x="-28440" y="804960"/>
            <a:ext cx="912960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MA LA TRADI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 </a:t>
            </a: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CI RACCON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DI UN ALTRO INCONT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DI GESÚ: QUELLO CO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500" spc="-1" strike="noStrike">
                <a:solidFill>
                  <a:srgbClr val="ffffff"/>
                </a:solidFill>
                <a:latin typeface="LTSalamanderDbl Medium"/>
              </a:rPr>
              <a:t>LA VERONICA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20:36:32Z</dcterms:created>
  <dc:creator> </dc:creator>
  <dc:description/>
  <dc:language>en-US</dc:language>
  <cp:lastModifiedBy>Qumran2</cp:lastModifiedBy>
  <dcterms:modified xsi:type="dcterms:W3CDTF">2011-04-11T14:42:56Z</dcterms:modified>
  <cp:revision>67</cp:revision>
  <dc:subject/>
  <dc:title>Diapositiva 1</dc:title>
</cp:coreProperties>
</file>